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2A20771-4824-4AF2-B23D-FEF4C012101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BAD0BA8-AD6C-4A1C-B95F-738B65A57D4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5D4A95A-7B2D-442E-BDBE-B3B66C6E78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D3A7A643-9EB8-4651-AD1A-6ACBD241C5AF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11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Cosmopolitan Net 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214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96880" y="5046840"/>
            <a:ext cx="7121520" cy="609480"/>
            <a:chOff x="596880" y="5046840"/>
            <a:chExt cx="7121520" cy="609480"/>
          </a:xfrm>
        </p:grpSpPr>
        <p:sp>
          <p:nvSpPr>
            <p:cNvPr id="220" name=""/>
            <p:cNvSpPr/>
            <p:nvPr/>
          </p:nvSpPr>
          <p:spPr>
            <a:xfrm>
              <a:off x="59688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91120" y="5046840"/>
              <a:ext cx="35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en-GB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223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M3 xx,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.7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2414520"/>
            <a:ext cx="2819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aesthetic in a surprisi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6880" y="2428920"/>
            <a:ext cx="32130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364824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4160" y="-3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eature comparis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nelope platform    versus   Series 60 platform ( 2.0 / 1.2 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1117440"/>
            <a:ext cx="2795760" cy="391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104840"/>
            <a:ext cx="350496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098720"/>
            <a:ext cx="384948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enelop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OMA Standard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hoto album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editor,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Video play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 Dual st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UI cust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00600" y="5157720"/>
            <a:ext cx="509112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16880" y="54151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9” display 256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5157720"/>
            <a:ext cx="3504960" cy="1295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2600" y="5427720"/>
            <a:ext cx="1629720" cy="8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WERTY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ixe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5” Penelop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display 64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1360" y="51102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39840" y="5135400"/>
            <a:ext cx="2367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 highlight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38440" y="1600200"/>
            <a:ext cx="94248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C-MM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21120" y="1111320"/>
            <a:ext cx="26082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2.0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7.0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2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1S (improv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MS: SMIL enhancem.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and ed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MF (Multimedia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rame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Media gall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PDP contex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(email push and PT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abic and Hebr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UI customization (skin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llet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66560" y="5181480"/>
            <a:ext cx="1098000" cy="6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Rel 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2080" y="5181480"/>
            <a:ext cx="11116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No suppor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Under eval.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b12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eb120d"/>
                </a:solidFill>
                <a:latin typeface="Arial"/>
              </a:rPr>
              <a:t>A-G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1130400"/>
            <a:ext cx="2210040" cy="389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8a4c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1123920"/>
            <a:ext cx="22096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Series 60 1.2 featur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mbian OS 6.1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ava: MIDP 1.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RM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mandatory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forward 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a </a:t>
            </a: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player and </a:t>
            </a:r>
            <a:br>
              <a:rPr sz="1400"/>
            </a:br>
            <a:r>
              <a:rPr b="0" i="1" lang="fi-FI" sz="1400" spc="-1" strike="noStrike">
                <a:solidFill>
                  <a:srgbClr val="000000"/>
                </a:solidFill>
                <a:latin typeface="Arial"/>
              </a:rPr>
              <a:t>  photo alb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AP 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cML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based on Series 60 / Penelop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4160" y="1219320"/>
          <a:ext cx="8432640" cy="5102280"/>
        </p:xfrm>
        <a:graphic>
          <a:graphicData uri="http://schemas.openxmlformats.org/drawingml/2006/table">
            <a:tbl>
              <a:tblPr/>
              <a:tblGrid>
                <a:gridCol w="1879560"/>
                <a:gridCol w="2361960"/>
                <a:gridCol w="2362320"/>
                <a:gridCol w="1828800"/>
              </a:tblGrid>
              <a:tr h="710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2.0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s plann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 with Series 60 1.2</a:t>
                      </a:r>
                      <a:br>
                        <a:rPr sz="1600"/>
                      </a:b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ith OMAP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68a4c0"/>
                        </a:gs>
                      </a:gsLst>
                      <a:lin ang="5400000"/>
                    </a:gradFill>
                  </a:tcPr>
                </a:tc>
              </a:tr>
              <a:tr h="791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c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45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92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&amp;D direct c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A-G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3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 Mio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Without software platform co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80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lau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ture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0" rIns="90000" tIns="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dence le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 Project tea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br>
                        <a:rPr sz="1400"/>
                      </a:b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280" y="3699000"/>
            <a:ext cx="8780760" cy="58392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268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4840" y="171360"/>
            <a:ext cx="73166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Financial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840" y="514656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840" y="4402080"/>
            <a:ext cx="8751960" cy="58428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840" y="315900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840" y="266076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840" y="2114640"/>
            <a:ext cx="8751960" cy="414360"/>
          </a:xfrm>
          <a:prstGeom prst="rect">
            <a:avLst/>
          </a:prstGeom>
          <a:solidFill>
            <a:srgbClr val="004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80" y="2060640"/>
            <a:ext cx="136512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hip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urn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K estim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ross Mar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1400" spc="-1" strike="noStrike">
                <a:solidFill>
                  <a:srgbClr val="ffffff"/>
                </a:solidFill>
                <a:latin typeface="Arial"/>
              </a:rPr>
              <a:t>% of T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54320" y="1781280"/>
            <a:ext cx="69840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3240" y="1773360"/>
            <a:ext cx="719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0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2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1080" y="1044720"/>
            <a:ext cx="10792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2b5d"/>
                </a:solidFill>
                <a:latin typeface="Arial"/>
              </a:rPr>
              <a:t>M Units/ M Eu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5800" y="1781280"/>
            <a:ext cx="6955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4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9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9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9440" y="1781280"/>
            <a:ext cx="72072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5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8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8’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18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8760" y="6246720"/>
            <a:ext cx="8663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*) For LC EBIT calculation 9‘2 €  direct and indirect R&amp;D efforts Neo in FY 02/03 are taken into account in all three sce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3440" y="1801800"/>
            <a:ext cx="863640" cy="42465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6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2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1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9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6’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,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52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4/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’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54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40’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6956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9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8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6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45080" y="1053720"/>
            <a:ext cx="223236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Penel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62440" y="1052280"/>
            <a:ext cx="154008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on SX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9/04 – 08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1440" y="1052280"/>
            <a:ext cx="2303640" cy="65628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o as of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01/05-12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3440" y="1052280"/>
            <a:ext cx="863640" cy="656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ctr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X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89440" y="252360"/>
            <a:ext cx="1828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First / rough  estimatio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61080" y="18900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32280" y="907920"/>
            <a:ext cx="172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46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5/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2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7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1’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3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0200" y="1773360"/>
            <a:ext cx="656280" cy="4246560"/>
          </a:xfrm>
          <a:prstGeom prst="rect">
            <a:avLst/>
          </a:prstGeom>
          <a:solidFill>
            <a:srgbClr val="68a4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03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 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’’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0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89’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0180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103‘4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181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-9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5560" y="5734080"/>
            <a:ext cx="1584360" cy="503280"/>
          </a:xfrm>
          <a:prstGeom prst="ellipse">
            <a:avLst/>
          </a:prstGeom>
          <a:solidFill>
            <a:srgbClr val="ffd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‘5 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60" y="5727600"/>
            <a:ext cx="104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LC EBIT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960" y="20268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Neo deci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6760" y="1189080"/>
            <a:ext cx="6959520" cy="59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ased on the scenarios it was strongly recommended from Rea Team on the 3.11.03 to switch to the proprietary platform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EBIT over L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Rel99 and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TTM (launch target 9/04 with 100k un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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complete rework of mechanic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A-GPS; No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S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Wingdings"/>
                <a:ea typeface="Wingdings"/>
              </a:rPr>
              <a:t>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No Camera; No memory card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with and supported from Sales and S&amp;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greed from MP-board on 4.1..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59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posi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75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aunch in 9/04 with 100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LC 1,7 M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78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, high value design -&gt; Messaging de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No Camera; No MMC slot; No A-GPS; No W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81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F Connector in a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84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20760" y="26416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7332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86080" y="2690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8840" y="26906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20760" y="1727280"/>
            <a:ext cx="652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7332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86080" y="17762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8840" y="1776240"/>
            <a:ext cx="128520" cy="12564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9488600">
            <a:off x="378000" y="2906280"/>
            <a:ext cx="73962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R&amp;D effort / cost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008000"/>
          <a:ext cx="7696080" cy="554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08000"/>
                    <a:ext cx="76960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1-06T13:15:32Z</dcterms:modified>
  <cp:revision>534</cp:revision>
  <dc:subject/>
  <dc:title>Template Project Status Review</dc:title>
</cp:coreProperties>
</file>